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B235-EFB6-48F5-B5C0-916B5A010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2F55-0602-40ED-8C49-149BBD1C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5EBD-A69A-4628-A072-E54C3BC85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8996-99EC-4895-B107-8DC6681DE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F1C4-4778-418E-8214-DB1464013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35AB-9629-4D28-AEE3-5CB2F089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56B0-8942-45A6-A2CE-A4F64AB2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7602-9D61-4A1D-9575-32181200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96DB-9424-4BE5-A636-F66163C4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6F43-472C-4A15-9C13-1624F89A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0205-1B2B-437B-8FCA-7AB9BE9C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0CD2-FC56-42E7-9E5A-A454B45C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74F1-90E1-489B-ADB7-78094DA3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7817-B3EA-4B03-A58D-02A4491D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F6A9-045B-4260-B225-743B4CE6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7E20-F506-45AA-938E-81DA257A1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E5EC-AACF-44D6-9943-A6FA92E85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D68A-5CDC-426D-BA22-1FB6AA83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80B2-A079-401A-8DA9-E38E67D4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1907-8B2C-49AB-8894-E45D1069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63E0-3D27-406B-9585-EB1CD344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864A-544F-4C2A-9D94-54790EB0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0070-F099-474B-9E25-CA171274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A68D-8EC6-4A5C-AAAF-F17CDC66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BC39-B73C-4B39-A0CB-51D7CFC48CEB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B8CE-C5C4-4960-BF12-4608C97023A9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66"/>
                </a:solidFill>
                <a:latin typeface="Verdana"/>
              </a:rPr>
              <a:t>Adquisición de Seguros Institucional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23880" y="274284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CONAF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Marcelo Carrasc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Mario Valenzuel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Verdana"/>
              </a:rPr>
              <a:t>Introduc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560" y="2214360"/>
            <a:ext cx="88390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Unidad encargada: Departamento de Administració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Los seguros que contrata están orientados a varios ítems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Vehícul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Embarcacion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Combatientes o brigadista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Guarda parqu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Computador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Inmuebl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Altos ejecutiv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Verdana"/>
              </a:rPr>
              <a:t>Descripción del Proces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2214360"/>
            <a:ext cx="85345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Verdana"/>
              </a:rPr>
              <a:t>Cliente: Departamento de Administración de CONAF Nacional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Verdana"/>
              </a:rPr>
              <a:t>Producto: Seguros de distinto tipo. Vehículos, brigadistas, inmuebles, computadores, guarda parque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Verdana"/>
              </a:rPr>
              <a:t>Objetivo del proceso: Contratación de seguros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Verdana"/>
              </a:rPr>
              <a:t>Medida de efectividad: Bienes y personas permanentemente asegurado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Verdana"/>
              </a:rPr>
              <a:t>Fuentes de generación de valor: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Verdana"/>
              </a:rPr>
              <a:t>Publicación de la licitación por Internet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Verdana"/>
              </a:rPr>
              <a:t>Decisión de adquisición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Verdana"/>
              </a:rPr>
              <a:t>Comunicación de  la información de adquisiciones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Diagrama IDEF0 </a:t>
            </a:r>
            <a:br>
              <a:rPr sz="2800"/>
            </a:b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Nivel A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896472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Nivel A1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Juicios y fundamentos sobre el actual funcionamiento del proceso</a:t>
            </a: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Escaso conocimiento sobre las materias aseguradas por parte de los funcionarios,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Mayor información de la siniestralidad ayudaría a mejorar la gestión en este ámbit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Existe desconocimiento de los procesos de liquidación de los seguros por parte de los funcionarios regional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9T06:32:48Z</dcterms:created>
  <dc:creator>Marcelo</dc:creator>
  <dc:description/>
  <dc:language>en-US</dc:language>
  <cp:lastModifiedBy>Mario Valenzuela</cp:lastModifiedBy>
  <dcterms:modified xsi:type="dcterms:W3CDTF">2005-08-09T04:08:54Z</dcterms:modified>
  <cp:revision>5</cp:revision>
  <dc:subject/>
  <dc:title>Adquisición de Seguros</dc:title>
</cp:coreProperties>
</file>